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E50-DC37-4757-A483-ADAB602F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284-79FA-4BEC-ACD7-B7BEF86A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0A5-8460-4B96-B38B-53D5AF2F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327-E193-4142-AFFE-8DE3430F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4D2-C293-4201-A709-B138201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FAE-8340-4DE2-943A-132912C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EB9-8137-40F5-BD60-ECDCEE6A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654-DF36-4E4A-822C-393E96F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5F4-C9BE-4868-8576-633656FE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92E-84AF-4448-8969-9E18721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235-5EC1-4BCD-82D5-70507CD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E4C-565C-4B18-B338-F6A9CE0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723A-7F65-44F7-8680-C9274C16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no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an Faf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479600">
            <a:off x="2057040" y="1904760"/>
            <a:ext cx="3755880" cy="338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ay I woke up to get ready for school just as u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uddenly, I realized I was late for the bus! I then began to run to the bus stop.  Unfortunately, a car came from behind and hit me, knocking me unconscious.  Once I had awakened I saw the silhouette of a long haired bearded man. While still quite groggy I inquired,  “Jesus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hen answered “No it’s John Lennon, m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here to be your guide through heaven!” exclaimed the jolly Bea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?” I as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yeah, look around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lanced around at the sight, and what I saw was flabbergasting. There were plush white clouds, beautiful purple mountain tops, and there were angels flying every wher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Graham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: 1847-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 of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d new worlds fo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: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gets to live in heaven but has no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hone3"/>
          <p:cNvSpPr/>
          <p:nvPr/>
        </p:nvSpPr>
        <p:spPr>
          <a:xfrm>
            <a:off x="5943600" y="1219320"/>
            <a:ext cx="1905120" cy="1600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:1820-19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f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 over 300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f death: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lives in heaven with good neighborhood and regula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1763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: 1910-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nice and kind her whole life helped the needy and poor, also converted many to Christi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: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lives in heaven in the highest social ring with large beautiful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after finding out all the things that these people did in their lives, I decide to as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, what will be my reward?” He answ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ctually go to hell, but we foresaw that you could change to be good by seeing this. But after I send you back you will be on your own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?” I said “Well how is it that I am going to return to the earth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mirked then replied “Well we have a way to send you bac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hat would that be?” I as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hen told me to close my eyes which I did and slapped me in the face ha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open my eyes I was back in my bed in the time when I had woke up that morning that had started the whole mess, I was dreaming! I thought to my self “What a strange dream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 online, Africans of America Harriet Tubman January 4, 2010 “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k, Kathryn, “Mother Teresa, A Complete Authorized Biography” Harper San Francisco, 1997. Net Library.   January 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Graham Bell- biography about.com January 4, 2010 “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46:52Z</dcterms:created>
  <dc:creator>.</dc:creator>
  <dc:description/>
  <dc:language>en-US</dc:language>
  <cp:lastModifiedBy>.</cp:lastModifiedBy>
  <dcterms:modified xsi:type="dcterms:W3CDTF">2010-01-08T00:45:54Z</dcterms:modified>
  <cp:revision>2</cp:revision>
  <dc:subject/>
  <dc:title>Inferno Project</dc:title>
</cp:coreProperties>
</file>